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4C4-6CD8-4F89-96D5-F7487D1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D06-C9FE-4D24-958E-52D7A04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A00-2924-4EEE-890F-1C0E10CA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3D4-A45A-470D-B3FD-3A05ACA9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8A1-B296-4D80-AB34-8A42E322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7ED-C82D-4294-94CA-307EDC38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C74-C8DE-4309-8327-81A0052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ACA-2845-447B-993B-58B1CD0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125-B783-4A30-B647-508E683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976-FE9C-4BA4-B766-448D020D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B7B-BF7C-499B-BF27-01E8150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441-A2BE-42E5-9DBA-5B29DF5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3DC-FD00-4687-8731-38F972898056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image" Target="../media/image2.png"/><Relationship Id="rId5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9.xm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d121"/>
                    </a:gs>
                  </a:gsLst>
                  <a:lin ang="5400000"/>
                </a:gradFill>
                <a:latin typeface="Impact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d1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566820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PEH: Review Quiz #2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6247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Questions by Sara Obernesser, Class of 2007</a:t>
            </a:r>
            <a:endParaRPr b="0" lang="en-US" sz="18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160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philosophy to rule arose from the quote “the greatest good for the greatest number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Karl Marx and this man jointly wrote the “Communist Manifesto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27672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French thinker’s ideas influenced the development of the nation-state and political absolutism. His major work was entitled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The Six Books of the Republic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86080" y="106668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harcoal"/>
              <a:ea typeface="Charco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theory that history follows a cyclical pattern of thesis, antithesis and synthesis was developed by this German thinke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the years following the Congress of Vienna (1815), this system was developed to restore peace and order.  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9652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adical of the French Revolution was killed by Charlotte Corday as he soaked in his bathtub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7366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eligious radical of the Reformation led the Peasants’ Revolt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81296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British school––which was not for teaching––was a 19th century school of economic thought that promoted laissez-faire. 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363600" y="2269800"/>
            <a:ext cx="847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Cardinal ran the French government when Louis XIV was a bo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81296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monastery, palace and burial chamber was built by Philip II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 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ir 1469 marriage led to closer ties for Aragon and Castil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Francisco Franco ultimately emerged as the victor in this conflict that gripped Spain from 1936-39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11788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capital city of the Moorish kingdom fell to Ferdinand &amp; Isabella in 1492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0160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67652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uler controlled the largest empire of his time.  It included Spain, the Holy Roman Empire, the Spanish Netherlands, parts of Italy and most of the New World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harles de Gaulle became the president of the 5th Republic of this countr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first phase of this major historical event was the March (February) Revolution in 1917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German Empire (1871-1918) was also known by this nam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apoleon Bonparte first gained political power in France during this fourth phase of the French Revolu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Peace of Paris, signed in 1763, ended this wa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2860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as CARDINAL RICHELIEU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litical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rt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EH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1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4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CONTINENTAL SYSTE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ISSISSIPPI BUBBL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26668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WAR OF SPANISH SUCCESSI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OUNTA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CHIAVELL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UTILITARIAN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ENGEL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JEAN BOD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HEGE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26668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ETTERNICH SYSTE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chief minister of Louis XIII laid the foundation of an absolute monarchy in France 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RA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UNZE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ANCHESTER SCHOO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ZZAR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ESCORIA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514600"/>
            <a:ext cx="6705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ere FERDINAND &amp; ISABELL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SPANISH CIVIL WA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GRANAD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CHARLES V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FRANC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system, formulated by Napoleon I, called for the boycotting of all British good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RUSSIAN REVOLUTI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SECOND REICH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CONSULA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SEVEN YEARS’ WA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cientific Revolution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8" name="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0" name="Untitled:Jeopardy! Folder:Jeopardy Template:think.mp3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4" name="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58056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French physician developed stitches to close wounds and ointment for preventing infection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757368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o was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3" name=""/>
          <p:cNvSpPr/>
          <p:nvPr/>
        </p:nvSpPr>
        <p:spPr>
          <a:xfrm>
            <a:off x="343080" y="3428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AMBROIS PARÉ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occurred in 1718 as a result of investors buying shares too quickly from the Mississippi Compan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war occurred to check the Bourbon king Louis XIV’s expansionism into the Spanish Empir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173664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faction of the Jacobin Party was the most radical element of the French Revolution. They were known to sit in the highest seats in the National Conven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e wrote that it was “better to be feared than loved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NHCS</cp:lastModifiedBy>
  <cp:lastPrinted>2005-04-28T14:49:40Z</cp:lastPrinted>
  <dcterms:modified xsi:type="dcterms:W3CDTF">2005-04-28T16:50:55Z</dcterms:modified>
  <cp:revision>508</cp:revision>
  <dc:subject/>
  <dc:title>No Slide Title</dc:title>
</cp:coreProperties>
</file>